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00F0-3B89-4BB0-B7D6-1924E2CB0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B382-7D3A-488F-B508-2847E6F0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5703-866B-4B12-80C8-E9022BB8E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CC7A-F3D3-44DC-B085-3703A5AE5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AEDE-815A-4AE0-B04A-638B2A40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6627-5D4E-4DF0-B9BF-08B1D7FB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5205-3F08-4714-9218-18F474ED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B528-9238-46A5-8DED-B04FED94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C4BE-0C8E-47AB-99C2-DE392864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9C69-39E3-435A-8D10-9A01D5C7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26EE-BC75-436D-83F1-EAD6884F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D194-3317-480D-B598-76FA57B8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F58C-F265-4060-8C2C-71DBCC26D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029200" y="152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25588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781520" y="1009800"/>
            <a:ext cx="413388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Mark E. Damo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647712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2001 - All Rights Reser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7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7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7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97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52480" y="142884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7360" y="6338880"/>
            <a:ext cx="16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52280" y="76320"/>
            <a:ext cx="1523880" cy="5181120"/>
            <a:chOff x="152280" y="76320"/>
            <a:chExt cx="1523880" cy="5181120"/>
          </a:xfrm>
        </p:grpSpPr>
        <p:sp>
          <p:nvSpPr>
            <p:cNvPr id="52" name=""/>
            <p:cNvSpPr/>
            <p:nvPr/>
          </p:nvSpPr>
          <p:spPr>
            <a:xfrm>
              <a:off x="152280" y="440712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2280" y="378828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,5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280" y="316944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2280" y="255096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2280" y="193212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2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280" y="131364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2280" y="69516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0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2280" y="7632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2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315200" y="1219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91520" y="4191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3T14:15:00Z</dcterms:created>
  <dc:creator>Mark E. Damon</dc:creator>
  <dc:description/>
  <dc:language>en-US</dc:language>
  <cp:lastModifiedBy>Connie Campbell</cp:lastModifiedBy>
  <dcterms:modified xsi:type="dcterms:W3CDTF">2002-05-31T22:09:32Z</dcterms:modified>
  <cp:revision>16</cp:revision>
  <dc:subject/>
  <dc:title>No Slide Title</dc:title>
</cp:coreProperties>
</file>